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applaus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gif" ContentType="image/gif"/>
  <Override PartName="/ppt/media/image17.png" ContentType="image/png"/>
  <Override PartName="/ppt/media/image18.png" ContentType="image/png"/>
  <Override PartName="/ppt/media/type.wav" ContentType="audio/x-wav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3E8-A4A4-4B14-A216-0588D573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55A-F8CF-498F-BAE4-065D8A8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94D-9D4A-45D6-9099-40B5389B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807-289E-4A46-8E5F-E92C60BC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82B-7B41-4466-8041-0AA1A993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FBC-B98C-43B3-BFF5-6AE9B4F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B09-3EBE-4172-86EA-3781615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B48-B698-4CA9-81D3-F57B3BE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8EA-4416-4D22-96F8-2618003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E40-0FE2-48B4-82CB-941AB3E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DC7-1A87-4A80-8490-4623FE2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481-E0CB-4AB8-AAF5-C0B63C2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92F-9ED2-4D50-AAC3-E0039ECCC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Unit%205%20language%20point1.ppt" TargetMode="External"/><Relationship Id="rId3" Type="http://schemas.openxmlformats.org/officeDocument/2006/relationships/image" Target="../media/image16.gif"/><Relationship Id="rId4" Type="http://schemas.openxmlformats.org/officeDocument/2006/relationships/hyperlink" Target="file:///Unit%205%20language%20point%202.ppt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Unit%205%20language%20point3.ppt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centennial%20Man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76876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Jurassic%20Park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Hero6" descr=""/>
          <p:cNvPicPr/>
          <p:nvPr/>
        </p:nvPicPr>
        <p:blipFill>
          <a:blip r:embed="rId3"/>
          <a:stretch/>
        </p:blipFill>
        <p:spPr>
          <a:xfrm>
            <a:off x="0" y="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Mulan" descr=""/>
          <p:cNvPicPr/>
          <p:nvPr/>
        </p:nvPicPr>
        <p:blipFill>
          <a:blip r:embed="rId4"/>
          <a:stretch/>
        </p:blipFill>
        <p:spPr>
          <a:xfrm>
            <a:off x="0" y="3352680"/>
            <a:ext cx="25909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Keanu%20Reeves" descr=""/>
          <p:cNvPicPr/>
          <p:nvPr/>
        </p:nvPicPr>
        <p:blipFill>
          <a:blip r:embed="rId5"/>
          <a:stretch/>
        </p:blipFill>
        <p:spPr>
          <a:xfrm>
            <a:off x="2590920" y="0"/>
            <a:ext cx="25779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2286000"/>
            <a:ext cx="6095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Westminster"/>
              </a:rPr>
              <a:t>The Silver Screen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Westminster"/>
              <a:ea typeface="Westminster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09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Unit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81680" y="0"/>
            <a:ext cx="2362320" cy="2209680"/>
          </a:xfrm>
          <a:prstGeom prst="irregularSeal1">
            <a:avLst/>
          </a:prstGeom>
          <a:solidFill>
            <a:srgbClr val="fff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Make Comments on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, tell the story in your own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ke comments on different things about the film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story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ctors/actresses very good or not? Why 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ot of action in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ending of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you have to give your opinion about the who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. If you think highly of the film you may encou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to go and se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73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717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828800" y="121932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Thank   You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T" descr=""/>
          <p:cNvPicPr/>
          <p:nvPr/>
        </p:nvPicPr>
        <p:blipFill>
          <a:blip r:embed="rId2"/>
          <a:stretch/>
        </p:blipFill>
        <p:spPr>
          <a:xfrm>
            <a:off x="685800" y="58680"/>
            <a:ext cx="3200400" cy="2151000"/>
          </a:xfrm>
          <a:prstGeom prst="rect">
            <a:avLst/>
          </a:prstGeom>
          <a:ln w="0">
            <a:noFill/>
          </a:ln>
        </p:spPr>
      </p:pic>
      <p:pic>
        <p:nvPicPr>
          <p:cNvPr id="50" name="Hero1" descr=""/>
          <p:cNvPicPr/>
          <p:nvPr/>
        </p:nvPicPr>
        <p:blipFill>
          <a:blip r:embed="rId3"/>
          <a:stretch/>
        </p:blipFill>
        <p:spPr>
          <a:xfrm>
            <a:off x="5257800" y="342252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icentennial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assicpark1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urassic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ulan1" descr=""/>
          <p:cNvPicPr/>
          <p:nvPr/>
        </p:nvPicPr>
        <p:blipFill>
          <a:blip r:embed="rId5"/>
          <a:stretch/>
        </p:blipFill>
        <p:spPr>
          <a:xfrm>
            <a:off x="5257800" y="76320"/>
            <a:ext cx="31622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M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52280"/>
            <a:ext cx="8991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What do we know about the city where Malcolm Grew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hat did he want to be when he was a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hat was the reason why Malcolm studied la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is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When did Malcolm really start his career in the thea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Why was the film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ream Mach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ortant to Malcol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25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a small town far from the big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406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When Malcolm was young he wanted to be a teac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5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his father wanted him to study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62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Malcolm met Fiona, he started his career in the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11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important because he did not have any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Keanu%20Reeves1" descr=""/>
          <p:cNvPicPr/>
          <p:nvPr/>
        </p:nvPicPr>
        <p:blipFill>
          <a:blip r:embed="rId2"/>
          <a:stretch/>
        </p:blipFill>
        <p:spPr>
          <a:xfrm>
            <a:off x="7147080" y="3429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Meryl%20streep" descr=""/>
          <p:cNvPicPr/>
          <p:nvPr/>
        </p:nvPicPr>
        <p:blipFill>
          <a:blip r:embed="rId3"/>
          <a:stretch/>
        </p:blipFill>
        <p:spPr>
          <a:xfrm>
            <a:off x="7086600" y="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8660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eryl St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Keanu Re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0944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Meryl Streep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ow did he begin to act in p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en did she began to act in her first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about his fami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Keanu Reeves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Where did Keanu Reeves grow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at about the time when he was you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make him famou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背景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Keanu%20Reeves1" descr=""/>
          <p:cNvPicPr/>
          <p:nvPr/>
        </p:nvPicPr>
        <p:blipFill>
          <a:blip r:embed="rId2"/>
          <a:stretch/>
        </p:blipFill>
        <p:spPr>
          <a:xfrm>
            <a:off x="66600" y="76320"/>
            <a:ext cx="237168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Meryl%20streep" descr=""/>
          <p:cNvPicPr/>
          <p:nvPr/>
        </p:nvPicPr>
        <p:blipFill>
          <a:blip r:embed="rId3"/>
          <a:stretch/>
        </p:blipFill>
        <p:spPr>
          <a:xfrm>
            <a:off x="6413400" y="763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33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eanu Ree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eryl Str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733920"/>
            <a:ext cx="88390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tudied/worked/acted at differ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…and then…          What did you do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you found a job as …    Later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oles did you act?   How long have you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a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背景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9730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part (the first paragraph) --- Steven Spielberg is a passionate about film from a very earl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131920"/>
            <a:ext cx="86104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econd part (the second paragraph) --- He could not go to the Film Academy but later his career began to take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64176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hird part (the next four paragraph) it is about several of Steven Spielberg’s successful fil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784760"/>
            <a:ext cx="8839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orth part (the last paragraph) What Steven Spielberg has said and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82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ur parts of the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IF05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0640" y="3276720"/>
            <a:ext cx="876240" cy="291960"/>
          </a:xfrm>
          <a:prstGeom prst="rect">
            <a:avLst/>
          </a:prstGeom>
          <a:ln w="0">
            <a:noFill/>
          </a:ln>
        </p:spPr>
      </p:pic>
      <p:pic>
        <p:nvPicPr>
          <p:cNvPr id="85" name="GIF05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54864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91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famous films of Spiel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a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75) is about a big shark that attacks and eats swimm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82) is about a little creature that comes from outer space and wants to go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93) is about an island where a very rich man keeps all kinds of dinosa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Schindler’s List(1993) is about the cruelty of war/a German who saved thousands of Jewish people from being killed in the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Saving Private Ryan(1998) is also about the cruelty of war/an American captain who led his team to search for a soldier named Ry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一个不能少1" descr=""/>
          <p:cNvPicPr/>
          <p:nvPr/>
        </p:nvPicPr>
        <p:blipFill>
          <a:blip r:embed="rId2"/>
          <a:stretch/>
        </p:blipFill>
        <p:spPr>
          <a:xfrm>
            <a:off x="324000" y="162000"/>
            <a:ext cx="3409920" cy="2276280"/>
          </a:xfrm>
          <a:prstGeom prst="rect">
            <a:avLst/>
          </a:prstGeom>
          <a:ln w="0">
            <a:noFill/>
          </a:ln>
        </p:spPr>
      </p:pic>
      <p:pic>
        <p:nvPicPr>
          <p:cNvPr id="90" name="一个不能少2" descr=""/>
          <p:cNvPicPr/>
          <p:nvPr/>
        </p:nvPicPr>
        <p:blipFill>
          <a:blip r:embed="rId3"/>
          <a:stretch/>
        </p:blipFill>
        <p:spPr>
          <a:xfrm>
            <a:off x="-47520" y="4038480"/>
            <a:ext cx="34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一个不能少3" descr=""/>
          <p:cNvPicPr/>
          <p:nvPr/>
        </p:nvPicPr>
        <p:blipFill>
          <a:blip r:embed="rId4"/>
          <a:stretch/>
        </p:blipFill>
        <p:spPr>
          <a:xfrm>
            <a:off x="6838920" y="346716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一个不能少4" descr=""/>
          <p:cNvPicPr/>
          <p:nvPr/>
        </p:nvPicPr>
        <p:blipFill>
          <a:blip r:embed="rId5"/>
          <a:stretch/>
        </p:blipFill>
        <p:spPr>
          <a:xfrm>
            <a:off x="3371760" y="4410000"/>
            <a:ext cx="3409920" cy="2295720"/>
          </a:xfrm>
          <a:prstGeom prst="rect">
            <a:avLst/>
          </a:prstGeom>
          <a:ln w="0">
            <a:noFill/>
          </a:ln>
        </p:spPr>
      </p:pic>
      <p:pic>
        <p:nvPicPr>
          <p:cNvPr id="93" name="一个不能少5" descr=""/>
          <p:cNvPicPr/>
          <p:nvPr/>
        </p:nvPicPr>
        <p:blipFill>
          <a:blip r:embed="rId6"/>
          <a:stretch/>
        </p:blipFill>
        <p:spPr>
          <a:xfrm>
            <a:off x="5429160" y="152280"/>
            <a:ext cx="3409920" cy="23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057400"/>
            <a:ext cx="3124440" cy="1981080"/>
          </a:xfrm>
          <a:prstGeom prst="cloudCallout">
            <a:avLst>
              <a:gd name="adj1" fmla="val 70324"/>
              <a:gd name="adj2" fmla="val 53925"/>
            </a:avLst>
          </a:prstGeom>
          <a:solidFill>
            <a:srgbClr val="b7f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Orange LET"/>
              </a:rPr>
              <a:t>Not On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13372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One 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8600"/>
            <a:ext cx="457200" cy="5791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Gao, Mr. Tian, Minzhi, Huike Some othe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99072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lm is about a 13-year-old girl, called Wei Minzhi, who takes care of the village school when the teacher, Mr. Gao, is away for a month. She has to make sure that all the students stay in the school. When one of them – Huike runs away to the city, she follows him and bring him back, together with the people from the TV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like this film not only because the story itself is moving, but also because most of the people in the film use their real names and pla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10800000">
            <a:off x="6324480" y="3962160"/>
            <a:ext cx="10670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3:06Z</dcterms:created>
  <dc:creator>user</dc:creator>
  <dc:description/>
  <dc:language>en-US</dc:language>
  <cp:lastModifiedBy> </cp:lastModifiedBy>
  <dcterms:modified xsi:type="dcterms:W3CDTF">2004-08-15T03:08:10Z</dcterms:modified>
  <cp:revision>40</cp:revision>
  <dc:subject/>
  <dc:title>PowerPoint 演示文稿</dc:title>
</cp:coreProperties>
</file>